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022-6255-4FC9-AFA7-9A277275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D08-8D3D-4F44-BABD-32B3F567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56C-7B68-4E99-B7AF-5D45BE0B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item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45C4-3D91-43EA-91D6-D489D218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ervic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95F-3758-47BB-8468-930F34E3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ubcontracted Servic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A74-6B34-44D3-A4B6-D9B0F14D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non-inventory parts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C8BF-1FF2-4E85-8EEB-A6D5D3D7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passed through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73B2-E1E7-4D35-A131-07D88B63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other charg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490A-38DB-471C-9891-7AD1D822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ales tax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6A8-FD9B-4B0D-A619-E337572D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Term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0D9B-5852-43EA-ABFC-8D211C5C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setting up Standard and Date-Driven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C3B-789D-44A8-B11C-E2F094D6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rice Level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832-084F-4697-98D9-105E458D4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7463-390F-4E8B-BC46-3764B916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using Custom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EF6-2F41-4F99-99E7-18FFD2FC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dding a custom field to a customer rec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DAD-7CDE-43D7-A2AE-86535B33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modifying a sales form templa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704-4DF4-4621-8751-2FF42AC4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2A1-80A2-4BF2-88D4-A9E75FA6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references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9229-B820-42C7-9D41-445B7842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3AE7-A201-4FFD-9C4E-8C6440F4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8C0-9AE0-4200-883F-83AA5957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0A18-658E-43A4-AEB6-E47B24224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customization of Icon b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2E79-9C83-4334-8DE1-7334CBA5F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5B9-9050-4F7C-8BC9-18099917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Item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6DAA-0A3A-4D09-8D2B-B7C182F8D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FC88-B420-4569-BEBA-D3DF4F49C9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24D8-BB53-40BC-81E8-8F7D20518D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CB57-38BF-4CB8-9BAD-33C4675C1B0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AA7F-99E6-4564-A5D0-BF3D7B82C0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0EA2-F491-417F-84B9-B003CBC7A5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A801-23C0-4E05-8B0E-46C70A40ED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0BCC-7D61-4C31-A620-E544A83360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BA26-33C3-433B-A352-B8DE36A234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1905-BDDF-465D-A4FF-BF1A982B72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2B74-75FB-47EE-A97A-3A01936DBDE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2FAC-30BD-424E-A35C-7FA7E76C6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AFCC-918F-45B4-B034-D30BD939D4F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9DE9-5B60-4E28-95EF-25ABBD33B72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4D15-22CC-4040-B5A6-2E65AE8C43D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6AC2-F221-4284-A1AC-1A6292D2A01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7950-6957-4E52-9A6F-5800CD19557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DB148-35C2-4A95-8F7B-87243058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0DD8-11B3-45AF-A5D4-1C6468A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CF64-7B57-4E14-BF30-AE0241B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85295-1D2B-4A31-A69C-E5CF6AAF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27FB-1268-4EA6-814A-DA00AADA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0125-7810-4576-AE30-958E4FF0C7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1E25E-1C5C-4FF9-A1B0-EF59156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EBE08-E4E4-4D21-9405-59B5551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F481A-F52A-41D3-A174-0BBC00E9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330D3-C54C-45D5-BE25-784E765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1760E-8ACC-4F1F-A152-5DE35DD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FF64A-3ECD-4F95-8A84-0BA120C9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02309-7CF7-4863-8F6F-55DBE014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0B0A6-0BD6-4C53-A799-D35363AA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3F9E3-2DF9-4836-8D42-00E09F3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DC256-559E-4DF8-93DA-2513843A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51E75-4D8C-42D4-9452-F3B7F42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A0C68-12DD-4019-BDB6-3A4030D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12EB8-927A-4F18-B79A-B3D823F7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370C7-D8F6-473C-9926-DA600E2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846C1-9703-4944-9DEC-08BD7B7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0E149-BDE1-4147-B144-0EF102F8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A211D-1BCA-4702-B025-4542873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B0545-89DE-41D8-9508-88A1D83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5F92E-262D-4280-BD2B-D0EE273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28E08-F888-4460-A356-73A7F31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21EC2-1DEC-42CC-9E65-C5FA85D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A7391-EA05-4D13-BA11-FB4C6F05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DF9D5-F98B-4A4C-8D8A-A0E3F386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52A19-4F7D-4EEA-BC1A-5C35B56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CFCBC3-1327-44A2-B477-B10E634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F23F-7C3F-4765-AF36-951C974B03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37B09-32EA-490B-BC8E-1C4968C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DDB82-4CFD-475D-A429-C2531DD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96C9F9-B61A-4A12-9A01-0DB8F91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C8A90-5679-4F8E-BC37-CC83888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58460-B510-4D7C-9534-2E5E737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F2D4D-7C23-4B80-BBED-3B9E1628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83EB6-7973-44D3-945A-472F5BB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00362-26F1-4846-9BC1-F673394E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1FAFE-D807-43CE-8FB6-AB286B3C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74BE32-938D-447E-8B7B-462AFECC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1CEC7-0641-411B-B9B8-0B1EB32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F2AC4-82F5-4F8F-833F-380CF0D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3FDDB-C7CB-4FD5-87D9-6812E4B7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86D97-4FC3-41D0-9651-05D96F3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ACEF1-B733-4341-A5A0-5C227D5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FE072-07AD-4BD0-A6EC-D90FC1A7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FADAF-286A-4EDD-BA81-2E69BD45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241F5-A4FE-4C1A-BBF0-7C137F55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2124B-46F9-4D33-B7A6-334324AD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CDC0-6EFB-4BBC-8C70-8AEED4AF75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175A0-CC22-4BE7-9435-4919EF2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68C35-3777-42B6-B2AA-672CA09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7FD16-D90D-44F5-AB02-CAEA003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271DA-BDD9-4416-9570-FE6766B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7DF66-D5AA-4629-A6DC-2B8F0C2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23E41-3E66-4142-8CBD-FCE9B2B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8C99D-F4E2-4F94-B743-8091520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85935-5BC1-4D5C-BD11-A7E6539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32BFA-BA57-4B59-BFD9-F2B7BB0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96440-41D0-4E6E-B739-A67A273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B38D-E1B3-4010-8D17-668210B767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55AFB-AE5B-4D07-9AA8-5FE3CE94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83F97-C093-4B34-AA8D-6F0C210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4E762-0312-4F25-A803-50DB7911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39F4D-7E7D-42C7-BA47-C4738E5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5181D-71AB-4ECA-A203-A7A3079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7FA2A-034E-45EE-976E-3F80C30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A03FB-E010-46D3-BC5F-8CE0BA1E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7969A-0A41-4202-A0A3-E3D6741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21551-AB3F-4ED2-8FAE-49C5E02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3F3E0-0E4C-4B93-8436-D70FF04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412A-383A-42DF-88CB-94968850D7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C3086-0FF1-4013-A31B-A9FB194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A2A55-96DB-4959-BC4A-BD6907E2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5F28F-8A0A-4674-85DB-72EFA5C3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5E2AC-3E3D-4428-B680-FEC7FC1A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76DB7-0F56-4ECA-BA3D-BAA763B8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F2909-40E4-4D86-ABFC-4FA31CA7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8916B-1417-4B0F-9167-44661DF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8AF57-FB2F-4FC9-BCB1-0350952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5C536-E403-42A1-A14D-B46285B9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C6400-F43D-42AC-A0CC-3460824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C7CA-C8A9-46FB-8212-026729AAA2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8F3FF-7F19-48D6-955E-890295B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81F5B-FC30-4185-B27C-21E24C5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A4C43-A583-44E2-8600-0589964E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AB869-B30D-4270-828A-D9137071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BDB37-F0DA-441F-B425-787935FB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779C-6F93-4721-8296-E12E291215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64B9-BBDD-4D79-BFFD-C5A6D6E583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022-02B2-46A6-90D5-E81B922DC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7B8-98B3-49DD-BEC8-871932BA0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62F-9489-4D03-8EC3-9812F88463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FB54-BA94-4C34-B7FC-283E76F719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D4A-3FFA-440A-A5E8-295CB5CCD3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1D2-F2FC-44A5-A1E0-D6E2832F76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4D21-2C40-4A35-A69A-E96C66E2D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9EF-FE97-45A2-A88C-58CB2400E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Rectangle 7" descr=""/>
          <p:cNvPicPr/>
          <p:nvPr/>
        </p:nvPicPr>
        <p:blipFill>
          <a:blip r:embed="rId1"/>
          <a:stretch/>
        </p:blipFill>
        <p:spPr>
          <a:xfrm>
            <a:off x="530280" y="1755720"/>
            <a:ext cx="8242200" cy="2200320"/>
          </a:xfrm>
          <a:prstGeom prst="rect">
            <a:avLst/>
          </a:prstGeom>
          <a:ln w="0">
            <a:noFill/>
          </a:ln>
        </p:spPr>
      </p:pic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7" name="Rectangle 4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several different types of items in QuickBoo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39" name="Picture 4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3657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3" descr=""/>
          <p:cNvPicPr/>
          <p:nvPr/>
        </p:nvPicPr>
        <p:blipFill>
          <a:blip r:embed="rId2"/>
          <a:stretch/>
        </p:blipFill>
        <p:spPr>
          <a:xfrm>
            <a:off x="1359000" y="1828800"/>
            <a:ext cx="6426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3" descr=""/>
          <p:cNvPicPr/>
          <p:nvPr/>
        </p:nvPicPr>
        <p:blipFill>
          <a:blip r:embed="rId2"/>
          <a:stretch/>
        </p:blipFill>
        <p:spPr>
          <a:xfrm>
            <a:off x="1406520" y="1714680"/>
            <a:ext cx="63309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tretch/>
        </p:blipFill>
        <p:spPr>
          <a:xfrm>
            <a:off x="1208160" y="1676520"/>
            <a:ext cx="67276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Rectangle 2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7431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2"/>
          <a:stretch/>
        </p:blipFill>
        <p:spPr>
          <a:xfrm>
            <a:off x="1641600" y="1863720"/>
            <a:ext cx="5860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467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2"/>
          <a:stretch/>
        </p:blipFill>
        <p:spPr>
          <a:xfrm>
            <a:off x="674640" y="1828800"/>
            <a:ext cx="7794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yment terms for your Invoices and Bi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s used to calculate when the Invoice or Bill is d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terms specified on the transaction include a discount for early payment, QuickBooks also calculates the date on which the discount exp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,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ustomers &amp; Vendor Profile Lis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erms Lis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allows you to define two types of term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tandar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rms calculate based on how many days from the Invoice or Bill date the payment is due or a discount is ear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ate-Driv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erms calculate based on the day of the month that an Invoice or Bill is due or a discount is earn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ust the sales amount of particular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adjust each item individually by selecting price level in the RATE column drop-down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assign a Price Level to a Customer’s record price level is set by defa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ify QuickBooks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QuickBooks Menus and Window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he Icon Bar and Display Sett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Item List and Other 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ustom Fields to Track Extra Data on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nd customize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e custom fields for tracking additional information specific to your customers, vendors, and employe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Fields button on the Additional Info tab of a Customer or Vendor recor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define up to fifteen custom fields in the QuickBooks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486400" cy="4729320"/>
          </a:xfrm>
          <a:prstGeom prst="rect">
            <a:avLst/>
          </a:prstGeom>
          <a:ln w="0">
            <a:noFill/>
          </a:ln>
        </p:spPr>
      </p:pic>
      <p:pic>
        <p:nvPicPr>
          <p:cNvPr id="1561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62" name="AutoShape 7"/>
          <p:cNvSpPr/>
          <p:nvPr/>
        </p:nvSpPr>
        <p:spPr>
          <a:xfrm>
            <a:off x="6705720" y="3581280"/>
            <a:ext cx="1676160" cy="1067040"/>
          </a:xfrm>
          <a:solidFill>
            <a:srgbClr val="ffffff"/>
          </a:solidFill>
          <a:ln w="3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lick this button to define custom fields for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710560" cy="123012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emplates to change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empl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mplate List contains the templates for all for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ify QuickBooks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QuickBooks Menus and Window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he Icon Bar and Display Sett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Item List and Other 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ustom Fields to Track Extra Data on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nd customize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ny customizable options allow you to configure QuickBoo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two types of preferenc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any 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r 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access QuickBooks preferences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y Preferenc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ompany Preferenc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ab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r preferences are specific to the user that is currently using the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references tab in the Preferences wind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 do not affect other us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any Preferences make global changes to the features and functionality of the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the Administrator of the data file can make changes to Company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448840" cy="157356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vorite Me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con B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9" name="Picture 6" descr="C:\Users\DPEMBR~1\AppData\Local\Temp\SNAGHTMLaee4439.PNG"/>
          <p:cNvPicPr/>
          <p:nvPr/>
        </p:nvPicPr>
        <p:blipFill>
          <a:blip r:embed="rId2"/>
          <a:stretch/>
        </p:blipFill>
        <p:spPr>
          <a:xfrm>
            <a:off x="561960" y="3124080"/>
            <a:ext cx="3330720" cy="259092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7" descr="C:\Users\DPEMBR~1\AppData\Local\Temp\SNAGHTMLaf03970.PNG"/>
          <p:cNvPicPr/>
          <p:nvPr/>
        </p:nvPicPr>
        <p:blipFill>
          <a:blip r:embed="rId3"/>
          <a:stretch/>
        </p:blipFill>
        <p:spPr>
          <a:xfrm>
            <a:off x="4454640" y="3124080"/>
            <a:ext cx="412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15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stomize using the Customize Icon Bar window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dit or delete existing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 separators between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osition icon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ing Add “window-name” to Icon Ba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the window open,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dd “window-name” to Icon B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oose an icon and enter a Label, then click O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Rectangle 2" descr=""/>
          <p:cNvPicPr/>
          <p:nvPr/>
        </p:nvPicPr>
        <p:blipFill>
          <a:blip r:embed="rId1"/>
          <a:stretch/>
        </p:blipFill>
        <p:spPr>
          <a:xfrm>
            <a:off x="55440" y="304920"/>
            <a:ext cx="9021960" cy="123192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help you track more details about your sales, QuickBooks provides several lis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Items Li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Terms Li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Price Levels Li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tem list identifies products and services purchased and/or so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d on the sales for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handles the behind the scene accounting for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19:02Z</dcterms:modified>
  <cp:revision>235</cp:revision>
  <dc:subject/>
  <dc:title>Chapter 7 Customizing QuickBooks</dc:title>
</cp:coreProperties>
</file>